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342-B278-4DFF-BA6C-96911D43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BC0-2ADF-4946-9298-B83C151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C4F-EB2B-4797-972A-CF041FAA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39C-6D36-4AE3-A203-E6727A77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FDC-E940-4133-8C85-6B81D7C7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DF3-BAB6-43BD-9170-EA04281B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D39-49C1-458E-867E-50FF12B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6DF-3843-4568-A3CE-33CE2EDB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723-9C92-41B2-88C3-F5F34872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A64-3433-484B-83C3-CEFD0760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89A-4F8A-40EF-8D5C-9F0B859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662-9C6C-4D40-94EC-6D1ADB2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453C-7681-43BD-817E-26D26E207B1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2 Keď sa blížia tmavej noci tie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blížia tmavej noci tie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chraňuj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ernú postav stráž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opraj, nový deň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zri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, Pane náš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s láska tvoj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chrá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ných čuj našich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osieb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tcovským vždy požehnan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sprevádzať všetkých ná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22:09Z</dcterms:modified>
  <cp:revision>56</cp:revision>
  <dc:subject/>
  <dc:title>Je veľký náš Pán, on slávy je Kráľ Nech do všetkých strán  spev vrúcnych znie chvál.</dc:title>
</cp:coreProperties>
</file>